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7E21-84DE-4CD8-932A-0F9C346ED4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9A58-6F35-48AD-A41A-78C97A48F02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F974-3283-41D4-A8CC-ED631E9EE1B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70D1-BF7D-4EE5-8453-8934564DD25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800" y="455112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828800" y="103644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34312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828800" y="455112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34312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14756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46596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82880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414756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46596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C98A-74EF-47BA-B2E8-C73919C4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312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1EB9-398E-4290-98F6-5AA6F67B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5869-B049-4ECB-8E3F-29D13092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B82-8277-4F81-B904-8E19195D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4FCE-C23E-43DC-9933-539CDF57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828800" y="103644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1B29-71C9-4DAE-A379-2CC53E76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68E-E3A9-4E89-8BFC-C2E2B5E4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34312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5B4D-5A69-4465-A323-4DD0C01B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5E92-5F7F-4621-95DE-6AFFCD1B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1828800" y="455112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DBB4-DB8C-445C-AF7B-4DA6C775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34312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4A81-E851-4F44-A3BF-5C6CF274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4756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6596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80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4756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6596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14756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46596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182880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414756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46596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9FAF-4A35-4285-80C1-35223565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828800" y="103644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4312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828800" y="455112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4312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4756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6596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82880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4756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6596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828800" y="103644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4312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828800" y="455112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4312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4756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6596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82880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14756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6596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828800" y="103644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4312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828800" y="455112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34312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4756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46596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82880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14756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46596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828800" y="103644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4312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828800" y="455112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34312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103644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4756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46596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82880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14756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46596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828800" y="103644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4312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828800" y="455112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34312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14756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6596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82880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14756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6596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828800" y="103644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312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34312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828800" y="455112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34312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14756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46596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82880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14756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46596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828800" y="103644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4312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828800" y="4551120"/>
            <a:ext cx="6858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43120" y="236196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82880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43120" y="4551120"/>
            <a:ext cx="3346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4756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65960" y="236196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82880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4756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65960" y="4551120"/>
            <a:ext cx="220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7784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627120" indent="-1764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627120" indent="-1764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17"/>
          <p:cNvSpPr/>
          <p:nvPr/>
        </p:nvSpPr>
        <p:spPr>
          <a:xfrm>
            <a:off x="339840" y="1000080"/>
            <a:ext cx="1336680" cy="1336680"/>
          </a:xfrm>
          <a:prstGeom prst="ellipse">
            <a:avLst/>
          </a:prstGeom>
          <a:solidFill>
            <a:srgbClr val="dc281e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0"/>
          <p:cNvSpPr/>
          <p:nvPr/>
        </p:nvSpPr>
        <p:spPr>
          <a:xfrm>
            <a:off x="380880" y="1295280"/>
            <a:ext cx="1276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grammes de transferts monét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7"/>
          <p:cNvSpPr/>
          <p:nvPr/>
        </p:nvSpPr>
        <p:spPr>
          <a:xfrm>
            <a:off x="228600" y="189000"/>
            <a:ext cx="86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dc281e"/>
                </a:solidFill>
                <a:latin typeface="Arial"/>
                <a:ea typeface="Arial"/>
              </a:rPr>
              <a:t>Mouvement international de la Croix-Rouge et du Croissant-Rouge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I Boîte à outils pour les transferts monétaires dans les situations d’urg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Oval 17"/>
          <p:cNvSpPr/>
          <p:nvPr/>
        </p:nvSpPr>
        <p:spPr>
          <a:xfrm>
            <a:off x="339840" y="1000080"/>
            <a:ext cx="1336680" cy="1336680"/>
          </a:xfrm>
          <a:prstGeom prst="ellipse">
            <a:avLst/>
          </a:prstGeom>
          <a:solidFill>
            <a:srgbClr val="dc281e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0"/>
          <p:cNvSpPr/>
          <p:nvPr/>
        </p:nvSpPr>
        <p:spPr>
          <a:xfrm>
            <a:off x="380880" y="1295280"/>
            <a:ext cx="1276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grammes de transferts monét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7"/>
          <p:cNvSpPr/>
          <p:nvPr/>
        </p:nvSpPr>
        <p:spPr>
          <a:xfrm>
            <a:off x="228600" y="189000"/>
            <a:ext cx="86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dc281e"/>
                </a:solidFill>
                <a:latin typeface="Arial"/>
                <a:ea typeface="Arial"/>
              </a:rPr>
              <a:t>Mouvement international de la Croix-Rouge et du Croissant-Rouge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I Boîte à outils pour les transferts monétaires dans les situations d’urg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0" y="0"/>
            <a:ext cx="9144000" cy="784080"/>
          </a:xfrm>
          <a:prstGeom prst="rect">
            <a:avLst/>
          </a:prstGeom>
          <a:solidFill>
            <a:srgbClr val="e000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>
            <a:off x="1187280" y="1628640"/>
            <a:ext cx="7956720" cy="0"/>
          </a:xfrm>
          <a:prstGeom prst="line">
            <a:avLst/>
          </a:prstGeom>
          <a:ln w="28440">
            <a:solidFill>
              <a:srgbClr val="e00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Object 2"/>
          <p:cNvGraphicFramePr/>
          <p:nvPr/>
        </p:nvGraphicFramePr>
        <p:xfrm>
          <a:off x="484200" y="130320"/>
          <a:ext cx="4340160" cy="49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4200" y="130320"/>
                    <a:ext cx="43401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7784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627120" indent="-1764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627120" indent="-1764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4A3B-2954-4550-8B78-B9B4538F821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17"/>
          <p:cNvSpPr/>
          <p:nvPr/>
        </p:nvSpPr>
        <p:spPr>
          <a:xfrm>
            <a:off x="339840" y="1000080"/>
            <a:ext cx="1336680" cy="1336680"/>
          </a:xfrm>
          <a:prstGeom prst="ellipse">
            <a:avLst/>
          </a:prstGeom>
          <a:solidFill>
            <a:srgbClr val="dc281e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0"/>
          <p:cNvSpPr/>
          <p:nvPr/>
        </p:nvSpPr>
        <p:spPr>
          <a:xfrm>
            <a:off x="380880" y="1295280"/>
            <a:ext cx="1276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grammes de transferts monét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228600" y="189000"/>
            <a:ext cx="86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dc281e"/>
                </a:solidFill>
                <a:latin typeface="Arial"/>
                <a:ea typeface="Arial"/>
              </a:rPr>
              <a:t>Mouvement international de la Croix-Rouge et du Croissant-Rouge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I Boîte à outils pour les transferts monétaires dans les situations d’urg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52280" y="814320"/>
            <a:ext cx="8839440" cy="5891400"/>
          </a:xfrm>
          <a:prstGeom prst="rect">
            <a:avLst/>
          </a:prstGeom>
          <a:solidFill>
            <a:srgbClr val="66584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7"/>
          <p:cNvSpPr/>
          <p:nvPr/>
        </p:nvSpPr>
        <p:spPr>
          <a:xfrm>
            <a:off x="338040" y="1000080"/>
            <a:ext cx="1336680" cy="1336680"/>
          </a:xfrm>
          <a:prstGeom prst="ellipse">
            <a:avLst/>
          </a:prstGeom>
          <a:solidFill>
            <a:srgbClr val="dc281e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3"/>
          <p:cNvSpPr/>
          <p:nvPr/>
        </p:nvSpPr>
        <p:spPr>
          <a:xfrm>
            <a:off x="380880" y="1295280"/>
            <a:ext cx="1278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grammes de transferts monét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7784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627120" indent="-1764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627120" indent="-1764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52280" y="814320"/>
            <a:ext cx="8839440" cy="5891400"/>
          </a:xfrm>
          <a:prstGeom prst="rect">
            <a:avLst/>
          </a:prstGeom>
          <a:solidFill>
            <a:srgbClr val="66584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7"/>
          <p:cNvSpPr/>
          <p:nvPr/>
        </p:nvSpPr>
        <p:spPr>
          <a:xfrm>
            <a:off x="338040" y="1000080"/>
            <a:ext cx="1336680" cy="1336680"/>
          </a:xfrm>
          <a:prstGeom prst="ellipse">
            <a:avLst/>
          </a:prstGeom>
          <a:solidFill>
            <a:srgbClr val="dc281e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380880" y="1295280"/>
            <a:ext cx="1278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grammes de transferts monét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CICR logo-FR"/>
          <p:cNvPicPr/>
          <p:nvPr/>
        </p:nvPicPr>
        <p:blipFill>
          <a:blip r:embed="rId2"/>
          <a:stretch/>
        </p:blipFill>
        <p:spPr>
          <a:xfrm>
            <a:off x="588960" y="76320"/>
            <a:ext cx="630360" cy="734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"/>
          <p:cNvPicPr/>
          <p:nvPr/>
        </p:nvPicPr>
        <p:blipFill>
          <a:blip r:embed="rId3"/>
          <a:stretch/>
        </p:blipFill>
        <p:spPr>
          <a:xfrm>
            <a:off x="5303880" y="380880"/>
            <a:ext cx="3186000" cy="3081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7784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627120" indent="-1764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627120" indent="-1764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17"/>
          <p:cNvSpPr/>
          <p:nvPr/>
        </p:nvSpPr>
        <p:spPr>
          <a:xfrm>
            <a:off x="339840" y="1000080"/>
            <a:ext cx="1336680" cy="1336680"/>
          </a:xfrm>
          <a:prstGeom prst="ellipse">
            <a:avLst/>
          </a:prstGeom>
          <a:solidFill>
            <a:srgbClr val="dc281e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380880" y="1295280"/>
            <a:ext cx="1276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grammes de transferts monét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228600" y="189000"/>
            <a:ext cx="86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dc281e"/>
                </a:solidFill>
                <a:latin typeface="Arial"/>
                <a:ea typeface="Arial"/>
              </a:rPr>
              <a:t>Mouvement international de la Croix-Rouge et du Croissant-Rouge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I Boîte à outils pour les transferts monétaires dans les situations d’urg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6"/>
          <p:cNvSpPr/>
          <p:nvPr/>
        </p:nvSpPr>
        <p:spPr>
          <a:xfrm>
            <a:off x="1828800" y="1066680"/>
            <a:ext cx="6858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7"/>
          <p:cNvSpPr/>
          <p:nvPr/>
        </p:nvSpPr>
        <p:spPr>
          <a:xfrm>
            <a:off x="1828800" y="2208240"/>
            <a:ext cx="685800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7784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627120" indent="-1764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627120" indent="-1764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Oval 17"/>
          <p:cNvSpPr/>
          <p:nvPr/>
        </p:nvSpPr>
        <p:spPr>
          <a:xfrm>
            <a:off x="339840" y="1000080"/>
            <a:ext cx="1336680" cy="1336680"/>
          </a:xfrm>
          <a:prstGeom prst="ellipse">
            <a:avLst/>
          </a:prstGeom>
          <a:solidFill>
            <a:srgbClr val="dc281e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0"/>
          <p:cNvSpPr/>
          <p:nvPr/>
        </p:nvSpPr>
        <p:spPr>
          <a:xfrm>
            <a:off x="380880" y="1295280"/>
            <a:ext cx="1276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grammes de transferts monét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228600" y="189000"/>
            <a:ext cx="86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dc281e"/>
                </a:solidFill>
                <a:latin typeface="Arial"/>
                <a:ea typeface="Arial"/>
              </a:rPr>
              <a:t>Mouvement international de la Croix-Rouge et du Croissant-Rouge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I Boîte à outils pour les transferts monétaires dans les situations d’urg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6"/>
          <p:cNvSpPr/>
          <p:nvPr/>
        </p:nvSpPr>
        <p:spPr>
          <a:xfrm>
            <a:off x="1828800" y="1066680"/>
            <a:ext cx="6858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7"/>
          <p:cNvSpPr/>
          <p:nvPr/>
        </p:nvSpPr>
        <p:spPr>
          <a:xfrm>
            <a:off x="1828800" y="2208240"/>
            <a:ext cx="685800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7784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627120" indent="-1764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627120" indent="-1764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Oval 17"/>
          <p:cNvSpPr/>
          <p:nvPr/>
        </p:nvSpPr>
        <p:spPr>
          <a:xfrm>
            <a:off x="339840" y="1000080"/>
            <a:ext cx="1336680" cy="1336680"/>
          </a:xfrm>
          <a:prstGeom prst="ellipse">
            <a:avLst/>
          </a:prstGeom>
          <a:solidFill>
            <a:srgbClr val="dc281e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0"/>
          <p:cNvSpPr/>
          <p:nvPr/>
        </p:nvSpPr>
        <p:spPr>
          <a:xfrm>
            <a:off x="380880" y="1295280"/>
            <a:ext cx="1276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grammes de transferts monét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228600" y="189000"/>
            <a:ext cx="86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dc281e"/>
                </a:solidFill>
                <a:latin typeface="Arial"/>
                <a:ea typeface="Arial"/>
              </a:rPr>
              <a:t>Mouvement international de la Croix-Rouge et du Croissant-Rouge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I Boîte à outils pour les transferts monétaires dans les situations d’urg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6"/>
          <p:cNvSpPr/>
          <p:nvPr/>
        </p:nvSpPr>
        <p:spPr>
          <a:xfrm>
            <a:off x="1828800" y="1039680"/>
            <a:ext cx="6858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7"/>
          <p:cNvSpPr/>
          <p:nvPr/>
        </p:nvSpPr>
        <p:spPr>
          <a:xfrm>
            <a:off x="1828800" y="2181240"/>
            <a:ext cx="685800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7784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627120" indent="-1764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627120" indent="-1764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Oval 17"/>
          <p:cNvSpPr/>
          <p:nvPr/>
        </p:nvSpPr>
        <p:spPr>
          <a:xfrm>
            <a:off x="339840" y="1000080"/>
            <a:ext cx="1336680" cy="1336680"/>
          </a:xfrm>
          <a:prstGeom prst="ellipse">
            <a:avLst/>
          </a:prstGeom>
          <a:solidFill>
            <a:srgbClr val="dc281e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0"/>
          <p:cNvSpPr/>
          <p:nvPr/>
        </p:nvSpPr>
        <p:spPr>
          <a:xfrm>
            <a:off x="380880" y="1295280"/>
            <a:ext cx="1276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grammes de transferts monét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228600" y="189000"/>
            <a:ext cx="86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dc281e"/>
                </a:solidFill>
                <a:latin typeface="Arial"/>
                <a:ea typeface="Arial"/>
              </a:rPr>
              <a:t>Mouvement international de la Croix-Rouge et du Croissant-Rouge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I Boîte à outils pour les transferts monétaires dans les situations d’urg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6"/>
          <p:cNvSpPr/>
          <p:nvPr/>
        </p:nvSpPr>
        <p:spPr>
          <a:xfrm>
            <a:off x="1828800" y="1039680"/>
            <a:ext cx="6858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7"/>
          <p:cNvSpPr/>
          <p:nvPr/>
        </p:nvSpPr>
        <p:spPr>
          <a:xfrm>
            <a:off x="1828800" y="2181240"/>
            <a:ext cx="685800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7784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627120" indent="-1764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627120" indent="-1764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7"/>
          <p:cNvGrpSpPr/>
          <p:nvPr/>
        </p:nvGrpSpPr>
        <p:grpSpPr>
          <a:xfrm>
            <a:off x="152280" y="152280"/>
            <a:ext cx="8839440" cy="6553440"/>
            <a:chOff x="152280" y="152280"/>
            <a:chExt cx="8839440" cy="6553440"/>
          </a:xfrm>
        </p:grpSpPr>
        <p:sp>
          <p:nvSpPr>
            <p:cNvPr id="301" name="Rectangle 7"/>
            <p:cNvSpPr/>
            <p:nvPr/>
          </p:nvSpPr>
          <p:spPr>
            <a:xfrm>
              <a:off x="152280" y="152280"/>
              <a:ext cx="8839440" cy="655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8"/>
            <p:cNvSpPr/>
            <p:nvPr/>
          </p:nvSpPr>
          <p:spPr>
            <a:xfrm>
              <a:off x="152280" y="152280"/>
              <a:ext cx="8839440" cy="5029560"/>
            </a:xfrm>
            <a:prstGeom prst="rect">
              <a:avLst/>
            </a:prstGeom>
            <a:solidFill>
              <a:srgbClr val="cf1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4"/>
            <p:cNvSpPr/>
            <p:nvPr/>
          </p:nvSpPr>
          <p:spPr>
            <a:xfrm>
              <a:off x="533160" y="574560"/>
              <a:ext cx="4724640" cy="51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30000">
                  <a:solidFill>
                    <a:srgbClr val="e8c7b0"/>
                  </a:solidFill>
                  <a:latin typeface="Arial"/>
                  <a:ea typeface="ＭＳ Ｐゴシック"/>
                </a:rPr>
                <a:t>FOR FURTHER INFORMATION ON XXXXXXXXX XXXXXXXX XXXXXXXXX XXXX, PLEASE CONTAC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30000">
                  <a:solidFill>
                    <a:srgbClr val="e8c7b0"/>
                  </a:solidFill>
                  <a:latin typeface="Arial"/>
                  <a:ea typeface="ＭＳ Ｐゴシック"/>
                </a:rPr>
                <a:t>IFRC XXXXXXXXXXXXX DEPART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30000">
                  <a:solidFill>
                    <a:srgbClr val="ffffff"/>
                  </a:solidFill>
                  <a:latin typeface="Arial"/>
                  <a:ea typeface="ＭＳ Ｐゴシック"/>
                </a:rPr>
                <a:t>NAME SURNAME, TITLE</a:t>
              </a:r>
              <a:br>
                <a:rPr sz="2000"/>
              </a:b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  <a:ea typeface="ＭＳ Ｐゴシック"/>
                </a:rPr>
                <a:t>TEL. : +41 022 730 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  <a:ea typeface="ＭＳ Ｐゴシック"/>
                </a:rPr>
                <a:t>EMAIL: name.surname@ifrc.or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30000">
                  <a:solidFill>
                    <a:srgbClr val="e8c7b0"/>
                  </a:solidFill>
                  <a:latin typeface="Arial"/>
                  <a:ea typeface="ＭＳ Ｐゴシック"/>
                </a:rPr>
                <a:t>THIS PRESENTATION IS PUBLISHED B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  <a:ea typeface="ＭＳ Ｐゴシック"/>
                </a:rPr>
                <a:t>INTERNATIONAL FEDERATION OF </a:t>
              </a:r>
              <a:br>
                <a:rPr sz="2000"/>
              </a:b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  <a:ea typeface="ＭＳ Ｐゴシック"/>
                </a:rPr>
                <a:t>RED CROSS AND RED CRESCENT SOCIE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  <a:ea typeface="ＭＳ Ｐゴシック"/>
                </a:rPr>
                <a:t>P.O. BOX 37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  <a:ea typeface="ＭＳ Ｐゴシック"/>
                </a:rPr>
                <a:t>CH-1211 GENEVA 1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  <a:ea typeface="ＭＳ Ｐゴシック"/>
                </a:rPr>
                <a:t>SWITZERL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  <a:ea typeface="ＭＳ Ｐゴシック"/>
                </a:rPr>
                <a:t>TEL.: +41 22 730 42 2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  <a:ea typeface="ＭＳ Ｐゴシック"/>
                </a:rPr>
                <a:t>FAX.: +41 22 733 03 9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Picture 15" descr="SLCM-icons logo-EN.jpg"/>
            <p:cNvPicPr/>
            <p:nvPr/>
          </p:nvPicPr>
          <p:blipFill>
            <a:blip r:embed="rId2"/>
            <a:stretch/>
          </p:blipFill>
          <p:spPr>
            <a:xfrm>
              <a:off x="456840" y="5562720"/>
              <a:ext cx="1905120" cy="98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16" descr="IFRC_logo_EN.jpg"/>
            <p:cNvPicPr/>
            <p:nvPr/>
          </p:nvPicPr>
          <p:blipFill>
            <a:blip r:embed="rId3"/>
            <a:stretch/>
          </p:blipFill>
          <p:spPr>
            <a:xfrm>
              <a:off x="5715000" y="6172560"/>
              <a:ext cx="3157920" cy="29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7784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627120" indent="-1764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627120" indent="-1764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Oval 17"/>
          <p:cNvSpPr/>
          <p:nvPr/>
        </p:nvSpPr>
        <p:spPr>
          <a:xfrm>
            <a:off x="339840" y="1000080"/>
            <a:ext cx="1336680" cy="1336680"/>
          </a:xfrm>
          <a:prstGeom prst="ellipse">
            <a:avLst/>
          </a:prstGeom>
          <a:solidFill>
            <a:srgbClr val="dc281e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0"/>
          <p:cNvSpPr/>
          <p:nvPr/>
        </p:nvSpPr>
        <p:spPr>
          <a:xfrm>
            <a:off x="380880" y="1295280"/>
            <a:ext cx="1276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grammes de transferts monét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"/>
          <p:cNvSpPr/>
          <p:nvPr/>
        </p:nvSpPr>
        <p:spPr>
          <a:xfrm>
            <a:off x="228600" y="189000"/>
            <a:ext cx="86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dc281e"/>
                </a:solidFill>
                <a:latin typeface="Arial"/>
                <a:ea typeface="Arial"/>
              </a:rPr>
              <a:t>Mouvement international de la Croix-Rouge et du Croissant-Rouge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I Boîte à outils pour les transferts monétaires dans les situations d’urg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6"/>
          <p:cNvSpPr/>
          <p:nvPr/>
        </p:nvSpPr>
        <p:spPr>
          <a:xfrm>
            <a:off x="1828800" y="1066680"/>
            <a:ext cx="6858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7"/>
          <p:cNvSpPr/>
          <p:nvPr/>
        </p:nvSpPr>
        <p:spPr>
          <a:xfrm>
            <a:off x="1828800" y="2208240"/>
            <a:ext cx="685800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7784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627120" indent="-176400">
              <a:spcBef>
                <a:spcPts val="550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627120" indent="-1764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627120" indent="-1764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71600" y="1752480"/>
            <a:ext cx="7238880" cy="18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300" spc="-1" strike="noStrike">
                <a:solidFill>
                  <a:srgbClr val="ffffff"/>
                </a:solidFill>
                <a:latin typeface="Arial"/>
                <a:ea typeface="Calibri"/>
              </a:rPr>
              <a:t>Programmes de transferts monétaires (PTM)</a:t>
            </a:r>
            <a:endParaRPr b="1" i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1818"/>
                </a:solidFill>
                <a:latin typeface="Arial"/>
              </a:rPr>
              <a:t>Li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1818"/>
                </a:solidFill>
                <a:latin typeface="Arial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3"/>
          <p:cNvSpPr/>
          <p:nvPr/>
        </p:nvSpPr>
        <p:spPr>
          <a:xfrm>
            <a:off x="1219320" y="35053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Information et sensib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Premiers exemples de PT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837720" y="22096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Guerre franco-prussienne, de 1870 à 187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Programme 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argent contre travail 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, en réponse à la famine en Inde, fin du XIX</a:t>
            </a:r>
            <a:r>
              <a:rPr b="0" lang="fr-CH" sz="26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 siè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Inondations à Galveston au Texas, 19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Distribution d’espèces en réponse à la famine en Inde, 19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Vastes programmes 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argent contre travail 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 en Inde, années 197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Vastes programmes 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argent contre travail </a:t>
            </a:r>
            <a:r>
              <a:rPr b="0" lang="fr-CH" sz="26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 au Botswana, années 198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Tendances générales en matière de PTM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294920" y="2286000"/>
            <a:ext cx="7696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ccent mis au départ sur la nourriture et les moyens de subsistance – les PTM commencent à s’étendre à d’autres secteurs, notamment à celui du lo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ccent mis sur le relèvement et le relèvement précoce – malgré quelques exemples de distributions d’espèces sans condition dans certaines situations d’urgence, rarement à grande éch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es efforts sont faits pour déployer les PTM plus rapidement et améliorer les plans de préparation, la planification d’urgence et l’évaluation des march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828440" y="1036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Tendances en matière de PTM parmi les acteurs humanitaire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828800" y="251460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Création du Ca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PAM : vise à répondre aux besoins  aliment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HCR : offre un soutien pour le rapatri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Tendances au sein de la Fédé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Tendances en matière de PTM parmi les donateurs </a:t>
            </a:r>
            <a:r>
              <a:rPr b="1" i="1" lang="fr-CH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(1)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371600" y="2209320"/>
            <a:ext cx="7772400" cy="42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300" spc="-1" strike="noStrike">
                <a:solidFill>
                  <a:srgbClr val="000000"/>
                </a:solidFill>
                <a:latin typeface="Arial"/>
                <a:ea typeface="Arial Unicode MS"/>
              </a:rPr>
              <a:t>DG ECH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300" spc="-1" strike="noStrike">
                <a:solidFill>
                  <a:srgbClr val="000000"/>
                </a:solidFill>
                <a:latin typeface="Arial"/>
                <a:ea typeface="Arial Unicode MS"/>
              </a:rPr>
              <a:t>Dispose d’une politique en matière de PT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300" spc="-1" strike="noStrike">
                <a:solidFill>
                  <a:srgbClr val="000000"/>
                </a:solidFill>
                <a:latin typeface="Arial"/>
                <a:ea typeface="Arial Unicode MS"/>
              </a:rPr>
              <a:t>S’emploie à promouvoir les PTM auprès de ses pai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300" spc="-1" strike="noStrike">
                <a:solidFill>
                  <a:srgbClr val="000000"/>
                </a:solidFill>
                <a:latin typeface="Arial"/>
                <a:ea typeface="Arial Unicode MS"/>
              </a:rPr>
              <a:t>Surveille activement l’évolution des investissements liés aux PTM : la tendance est à l’augmentatio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300" spc="-1" strike="noStrike">
                <a:solidFill>
                  <a:srgbClr val="000000"/>
                </a:solidFill>
                <a:latin typeface="Arial"/>
                <a:ea typeface="Arial Unicode MS"/>
              </a:rPr>
              <a:t>DFI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300" spc="-1" strike="noStrike">
                <a:solidFill>
                  <a:srgbClr val="000000"/>
                </a:solidFill>
                <a:latin typeface="Arial"/>
                <a:ea typeface="Arial Unicode MS"/>
              </a:rPr>
              <a:t>L’examen des interventions humanitaires a soulevé la possibilité d’une approche privilégiant les transferts monétai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300" spc="-1" strike="noStrike">
                <a:solidFill>
                  <a:srgbClr val="000000"/>
                </a:solidFill>
                <a:latin typeface="Arial"/>
                <a:ea typeface="Arial Unicode MS"/>
              </a:rPr>
              <a:t>Le DFID encourage un recours plus systématique à des approches novatrices, telles que les PT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Tendances en matière de PTM parmi les donateurs</a:t>
            </a:r>
            <a:r>
              <a:rPr b="1" i="1" lang="fr-CH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(2)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218960" y="22096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USAI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Aucune restriction concernant l’utilisation des fonds de l’OFDA pour la mise en place de P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L’OFDA signale une augmentation rapide du recours aux PTM, dont le nombre a environ doublé au cours des deux dernières anné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De manière génér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Aucun donateur ne s’oppose activement à la mise en place de P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Aucun donateur n’a signalé l’existence d’obstacles politiques inter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2819160"/>
            <a:ext cx="7238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4000" spc="-1" strike="noStrike">
                <a:solidFill>
                  <a:srgbClr val="ffffff"/>
                </a:solidFill>
                <a:latin typeface="Arial"/>
              </a:rPr>
              <a:t>Analyse des solutions d’intervention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541818"/>
                </a:solidFill>
                <a:latin typeface="Arial"/>
              </a:rPr>
              <a:t>Comment choisir l’approche la plus appropri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Analyse des solutions d’interventio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371240" y="22093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100" spc="-1" strike="noStrike">
                <a:solidFill>
                  <a:srgbClr val="000000"/>
                </a:solidFill>
                <a:latin typeface="Arial"/>
              </a:rPr>
              <a:t>Aperçu 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74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100" spc="-1" strike="noStrike">
                <a:solidFill>
                  <a:srgbClr val="000000"/>
                </a:solidFill>
                <a:latin typeface="Arial"/>
              </a:rPr>
              <a:t>En quoi cette analyse consiste-t-elle et quand doit-elle être menée 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74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100" spc="-1" strike="noStrike">
                <a:solidFill>
                  <a:srgbClr val="000000"/>
                </a:solidFill>
                <a:latin typeface="Arial"/>
              </a:rPr>
              <a:t>Réflexion </a:t>
            </a:r>
            <a:r>
              <a:rPr b="0" lang="fr-CH" sz="31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0" lang="fr-CH" sz="3100" spc="-1" strike="noStrike">
                <a:solidFill>
                  <a:srgbClr val="000000"/>
                </a:solidFill>
                <a:latin typeface="Arial"/>
              </a:rPr>
              <a:t>sans limite </a:t>
            </a:r>
            <a:r>
              <a:rPr b="0" lang="fr-CH" sz="31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74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100" spc="-1" strike="noStrike">
                <a:solidFill>
                  <a:srgbClr val="000000"/>
                </a:solidFill>
                <a:latin typeface="Arial"/>
              </a:rPr>
              <a:t>Définition de critèr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74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100" spc="-1" strike="noStrike">
                <a:solidFill>
                  <a:srgbClr val="000000"/>
                </a:solidFill>
                <a:latin typeface="Arial"/>
              </a:rPr>
              <a:t>Évaluation des solutions d’interven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74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100" spc="-1" strike="noStrike">
                <a:solidFill>
                  <a:srgbClr val="000000"/>
                </a:solidFill>
                <a:latin typeface="Arial"/>
              </a:rPr>
              <a:t>Formulation de recommandation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74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100" spc="-1" strike="noStrike">
                <a:solidFill>
                  <a:srgbClr val="000000"/>
                </a:solidFill>
                <a:latin typeface="Arial"/>
                <a:ea typeface="Arial Unicode MS"/>
              </a:rPr>
              <a:t>Résumé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28440" y="1036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En quoi cette analyse consiste-t-elle et quand doit-elle être menée 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4" descr=""/>
          <p:cNvPicPr/>
          <p:nvPr/>
        </p:nvPicPr>
        <p:blipFill>
          <a:blip r:embed="rId1"/>
          <a:stretch/>
        </p:blipFill>
        <p:spPr>
          <a:xfrm>
            <a:off x="77760" y="2427120"/>
            <a:ext cx="898704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Réflexion « sans limite »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Incluez </a:t>
            </a: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toutes 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les interventions qui pourraient répondre aux besoins identifi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N’écartez aucune solution à ce st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Exemples de critères d’évaluatio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2590920"/>
            <a:ext cx="4038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riorités et capacités de la Société nationale hô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riorités et capacités de la population touch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apidité et caractère saisonn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648320" y="2590920"/>
            <a:ext cx="4038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mpact probable, rapport coût-efficac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hances de durabilité, transition vers le relè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ssources dispon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560" y="2134800"/>
            <a:ext cx="8458200" cy="25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Présentation des PTM</a:t>
            </a:r>
            <a:br>
              <a:rPr sz="2800"/>
            </a:b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Tendances en matière de PTM parmi les acteurs humanitaires et les donateurs</a:t>
            </a:r>
            <a:br>
              <a:rPr sz="2800"/>
            </a:b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Analyse des solutions d’interven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Évaluation des solutions d’interventio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523880" y="22860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Évaluez chaque solution au regard des critères défi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Tous les facteurs n’ont pas la même importance – prévoyez un coefficient de pondé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Comparez les solutions afin de définir les approches les plus appropriées et justifiez les cho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Recommandation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523520" y="2286000"/>
            <a:ext cx="7239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99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L’analyse des solutions d’intervention permet de justifier l’approche choi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799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Elle permet de comparer les possibilités de manière 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799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Elle permet d’accroître la qualité des program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799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Elle se révèle très utile pour la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Résumé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5" descr=""/>
          <p:cNvPicPr/>
          <p:nvPr/>
        </p:nvPicPr>
        <p:blipFill>
          <a:blip r:embed="rId1"/>
          <a:stretch/>
        </p:blipFill>
        <p:spPr>
          <a:xfrm>
            <a:off x="79200" y="2505240"/>
            <a:ext cx="898560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1868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Arial"/>
                <a:ea typeface="Calibri"/>
              </a:rPr>
              <a:t>PTM</a:t>
            </a:r>
            <a:r>
              <a:rPr b="1" lang="fr-CH" sz="36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Arial"/>
                <a:ea typeface="Calibri"/>
              </a:rPr>
              <a:t>Information et sensibilisation</a:t>
            </a:r>
            <a:br>
              <a:rPr sz="3600"/>
            </a:br>
            <a:r>
              <a:rPr b="1" lang="fr-CH" sz="3200" spc="-1" strike="noStrike">
                <a:solidFill>
                  <a:srgbClr val="ffffff"/>
                </a:solidFill>
                <a:latin typeface="Arial"/>
                <a:ea typeface="Calibri"/>
              </a:rPr>
              <a:t>Merci de votre attention !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4181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05120" y="1066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600" spc="-1" strike="noStrike">
                <a:solidFill>
                  <a:srgbClr val="000000"/>
                </a:solidFill>
                <a:latin typeface="Arial"/>
              </a:rPr>
              <a:t>Aperç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828800" y="23619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Que sont les PTM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Pourquoi certaines Sociétés nationales optent pour les P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Approches en matière de P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Modalités de transferts monét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Cartographie des PTM de la Croix-Rouge et du Croissant-Ro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828800" y="990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Que sont les PTM 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219320" y="22096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100" spc="-1" strike="noStrike">
                <a:solidFill>
                  <a:srgbClr val="000000"/>
                </a:solidFill>
                <a:latin typeface="Arial"/>
                <a:ea typeface="Arial Unicode MS"/>
              </a:rPr>
              <a:t>Les PTM visent à fournir une aide sous la forme d’espèces ou de bons, plutôt que sous la forme de nourriture ou de matériel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74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100" spc="-1" strike="noStrike">
                <a:solidFill>
                  <a:srgbClr val="000000"/>
                </a:solidFill>
                <a:latin typeface="Arial"/>
                <a:ea typeface="Calibri"/>
              </a:rPr>
              <a:t>Les transferts monétaires ne sont pas un objectif en soi des programmes d’aide ; ils sont un moyen de les mettre en œuvr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28800" y="1066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Pourquoi certaines Sociétés nationales optent pour les PTM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6840" y="2361960"/>
            <a:ext cx="426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aisons humani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utonomisation et dign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hoix et flexi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ransfert du pou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assage de l’intervention d’urgence au relè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fficacité dans divers secteurs et dans des situations présentant des besoins diffé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48320" y="23619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aisons pragm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fficaces par rapport au coû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ffets multiplic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outien au commerce local favorisant la reprise économ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éduction des coûts pour les bénéfici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f1c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Approches en matière de PT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142640" y="24382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Les PTM peuv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être assortis ou non de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être utilisés dans un large éventail de se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révoir des paiements uniques ou répé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nglober l’ensemble de la population ou cibler des groupes spéc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être mis en œuvre par une seule organisation ou en partenariat avec des organismes gouvernement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rendre la forme de subventions en espèces ou de b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828800" y="1036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Modalités de transferts monétaire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914400" y="3332160"/>
            <a:ext cx="4114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Distribution directe – de la main à la 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hè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Transferts sur des comptes banc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Organismes de transfert de f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Content Placeholder 2"/>
          <p:cNvSpPr/>
          <p:nvPr/>
        </p:nvSpPr>
        <p:spPr>
          <a:xfrm>
            <a:off x="914400" y="2349360"/>
            <a:ext cx="6858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Les transferts monétaires peuvent prendre différentes formes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Content Placeholder 2"/>
          <p:cNvSpPr/>
          <p:nvPr/>
        </p:nvSpPr>
        <p:spPr>
          <a:xfrm>
            <a:off x="4952880" y="3390840"/>
            <a:ext cx="396252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Bureaux de po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B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artes prépay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Téléphones mob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7696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4000" spc="-1" strike="noStrike">
                <a:solidFill>
                  <a:srgbClr val="ffffff"/>
                </a:solidFill>
                <a:latin typeface="Arial"/>
              </a:rPr>
              <a:t>Tendances en matière de PTM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4181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05120" y="1066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Aperç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523520" y="2361960"/>
            <a:ext cx="7162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Premiers exemples de P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Tendances générales en matière de P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Tendances en matière de PTM parmi les acteurs humanit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201"/>
              </a:spcBef>
              <a:spcAft>
                <a:spcPts val="201"/>
              </a:spcAft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Tendances en matière de PTM parmi les donate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799"/>
              </a:spcBef>
              <a:buClr>
                <a:srgbClr val="dc281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Recherches et pub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4:12:22Z</dcterms:created>
  <dc:creator>goli.ameri</dc:creator>
  <dc:description/>
  <dc:language>en-US</dc:language>
  <cp:lastModifiedBy>Florence MAROT</cp:lastModifiedBy>
  <cp:lastPrinted>2015-09-24T19:49:12Z</cp:lastPrinted>
  <dcterms:modified xsi:type="dcterms:W3CDTF">2016-03-23T10:12:36Z</dcterms:modified>
  <cp:revision>344</cp:revision>
  <dc:subject/>
  <dc:title>Slide 1</dc:title>
</cp:coreProperties>
</file>