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16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17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0770-FF4B-467A-9E39-615BCC101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7AAC-B0AD-4BD4-B92C-FB3C09C63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E25-A2E8-4EBA-BDEB-265693481A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FB3-2879-4220-9391-A1EAAA4A4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2A2C-C9EC-4A15-A173-75ACBB08D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B06-41A0-45E4-A14F-C730F5DA2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62D3-E05F-48C7-AFE4-94056BC98C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C12-283A-4C18-A58E-6F9AA65B27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1D3-7691-4375-81B6-4D343179D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651-0114-4C65-8C49-1AB1DFA373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5A4-1CA5-487F-A63B-2B67DD9C40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BB6-6D1A-4C81-9A33-4675C73385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3F4E-C49E-4901-8969-990693263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BAC-D7C3-4500-BA8E-97162941DF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40B9-4B23-4334-A107-2FC1B96B3B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54CC-C55C-4D6F-8047-2A0D311704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FC8-78E8-426D-B7CC-548A59264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C79-917E-457F-B836-622B550E2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E7AE-EB01-4213-9CB8-8C2D4C83D4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A56F6-4EF1-474A-9F0E-31E490F752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34224-9E05-4961-A6CA-085E52A87B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FCE4F-7672-461C-8384-429CC46595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88098-2AC5-425B-A496-97001E32B1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4DE02-0B80-4193-BBA2-2EE99A1611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C6145-A31B-420C-A1A0-5FCF95D4A8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372D4-B5CE-4B7B-A9A0-49150F1804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B8103-E74D-4AC0-B219-CA5E285500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7862C-DDEF-4D62-AE94-0819ACB875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E2171-495B-4520-9E49-3C8993571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741C-00DD-4D66-9C09-AA4074B59D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67F1-721C-435F-9022-79E59929BD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8F1F-36DC-4708-B22F-F154B062BA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8903-9B36-4231-988B-8024A5A6B9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1F1B-E491-4D0A-B54E-26A0076DF5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9D9F-D478-4902-9E74-A26583ED3E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B7AC-290D-4F5A-A12C-78A3F9252F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2E30-CEDD-4C0B-91B5-3D0FBFBD477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0795-5447-4984-9724-1EC8D75400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1CC7-698C-47CC-A987-5E6F9B03C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5723-6087-4BAA-85B9-1CECB1237C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79841-A777-4BD8-B1C5-EA3C8AA66A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AF888-295A-4E82-A42B-E8862237D68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73249-2C87-430E-815C-CE45FCDDD7B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27F4F-EE1C-482A-AEB5-B02D0E7892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3922A-65B1-4986-B4B3-869CBFF8C1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9BDD3-CE1B-4EA6-8EC1-FC90130385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4F698-E25B-4D7F-B190-1D653E5407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423C5-4AD5-4054-9451-65A9C85261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2B880-C57B-45DF-B3B2-A41565C8C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4140-F9BC-421F-9250-C33A5443BB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2F640-5609-4699-91A9-6A116A37F0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208C1-56E8-497A-A4E7-2EF8E78973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6041A-8EB6-4C1A-B09C-E26351BB30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1A911-BC99-4542-B2E5-09557316A1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6216F-A82D-4EDF-8C4C-91F2A70BC2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830C7-7D7B-47C5-9436-E476A967F1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D0333-F7AE-4FB9-8F29-845D64597E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05176-AD23-4E70-8495-505D66BFE50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6FCCE-36E4-44C1-9E61-F7ABD8163B4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22DB0-EF2F-4913-913D-A25A70DFB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BDE5-4A6E-48F6-B7A7-B9F9DBCFEBC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081F0-2F98-4C55-B575-2D4BD81EB8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9977C-79F1-4906-A2F0-D46A4D2A8D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319D8-E48E-4FFD-BF07-307270F308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EE45C-AA14-431F-9805-6A9AAF09BA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FD133-5D94-4839-8577-1F9D88C96B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67CA-A8D5-4456-A255-3D4BBFB6CA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D580-A133-41B0-8B93-9FDE64BF95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ED30-2BF2-4110-B66C-1CD4C91DE40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A4C1-B481-4E25-9524-3CD255468B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525B-3805-4DB4-B044-6A9A34487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56C1-2B9A-49DB-AA98-5A67CF988C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B5F1-6099-4CE9-918B-80541F68D5F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F21F-7C10-4FF0-AB6F-5222FB3BBD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CF08-79D2-4562-BE49-43C60AB0A5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F03B-9213-48F8-AD91-5DDA916B54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738C-4776-43BD-8B69-232B3BF9F95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CBF0-8768-4F8E-9E10-025029247F3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2C86-2A98-4F37-AB8D-A2F9EF70197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5ABF04-98EB-42A6-918B-ED76FCD411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05535D-A85B-47B7-8F67-3DDCD7CA231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7CF87-8F7D-4FB6-A2E2-9C6DB782E8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26B1-6920-44F7-B0A1-3F7C63D88BC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13D91-9E76-46E9-8CA4-AC66D83EF2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3F54E-37AE-4853-8932-0A5DD52C462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F51368-92D2-4C50-BA67-FEC2079159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B36111-BDF8-48BD-8B58-D9D8F8351CB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6E56B8-ED19-4E03-9E96-3781D62A296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324BC-579C-4DA3-BF9B-BF68C8BEC41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49B496-27A8-4B8A-88D9-32536F2F842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80CC5-4562-425E-A2F3-D61144DC9E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3B7B4F-E363-4644-AB14-101B3BA3010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C2FAB-3243-41E9-817C-7346EF1ADD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00AC-BAE2-4984-B9D1-0A068C74C61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9DB6A-3E6F-47A6-9B8B-4749AADF97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EFF5B-064D-40B5-B8B9-7EE8E7E8AD4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85814-E29A-4F4F-AC06-F6A45D45FA1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29911-71F5-49C4-A07C-40D0ADBDF07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37675-DD0D-4237-B5D1-011D85EED6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F7728-2688-4FB3-918B-1084388443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4B26B-EC50-49DB-8EF8-FD68148B2F0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5606C-94F0-438C-93B9-F49DF3E5798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8DBC6-EDA5-4440-AEA6-F4A3DC55989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FE85D-ED61-44D9-A169-C394DA743A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A436-1FFF-4440-A855-7169C9791E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FA50B-E9FE-40AA-A841-3F6AADCF8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1A29-0A05-4DD7-8B1D-11B34A84F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5D36-7632-479D-AFF6-193C5C5BC6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81EB-9147-4E05-9DFB-9BAA07738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2235-6AAC-47DC-8FFD-9233155955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6F18-88DE-4B85-AE78-60DBD8CBD4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240C-4EDD-4B0C-994F-B78A54F502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BE94-8E7F-4838-8614-17B8754D5C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C605-1107-4592-AECC-63C762B0ED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969C-07BA-4DCA-8BF3-5E27DBFDC6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C28D-4AA0-4E9A-A920-55FE0AF6E9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5AE0-B636-49C0-BF1D-A227A730BF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130F-F333-4C90-BEA5-8BCF36AC6E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77E7-419A-4E77-9475-FF1A4DD05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B36E-D04C-4669-9555-52071DDDD1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D616-9BCF-41E1-BC5F-936E8EC694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B77D-E628-48D0-B910-A504028708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F892-1A3C-402A-BBAD-EE3354D9C6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44ED-41FD-4B44-BF6C-077B480DE4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411-F327-408D-9BA5-E256550E6F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A70-7108-4531-B5FB-523B508D9F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A6B-318E-4404-8119-D8AEA1A38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D35-16A8-4546-9CCB-514DB4F4B1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503-6080-4033-B61D-DD85B0F54C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C87-CEB5-433C-B28E-FFCD03589E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E29-42C1-492F-B005-B43D73B0D8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206-0318-4A84-A70A-BDC99D9DC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8FE-93AF-4DD6-AFBB-21C5009D5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2CF-AD9E-4FE0-9F4A-0D85259B0E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9DD-2DC9-4348-95F3-1218C89024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32F-4B8C-447B-82B4-7DB936CF3F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4D35-1148-4410-AC1A-FA5CEA3DA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86414-4F81-4878-ADFF-8C293643BB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25D7B-D24F-4F78-A50C-E705CC542E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EB7BB-2D76-439F-8B98-1385437EAE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4F63C-CA44-41FA-A6F3-1830875932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1E6AD-9059-4A38-AD21-EB365863D4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659D7-B858-4246-BA2E-757167C9A4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0D36B-19AA-4B21-9A97-B7A00A65D7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10E8-8BCA-4B89-A70B-2448795E71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65430-3400-432E-A322-F631B1E4E7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46D7-B344-447B-9922-E0A6C12FC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23DA-B7AE-4D1D-B3F1-945F1EA097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03B5F-A3D3-4B77-8136-3DB2299607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986EF-C411-4F28-A5C7-9097ACACCB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E414D-99F9-472D-B808-63045FACDF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262C-2645-4621-A61A-75DA7A83A6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0F64-7C76-481F-9022-215C8A0C6E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57C1-66CA-4148-AEB4-10AB421725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8D820-DA39-42C1-A066-42A86C4974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0C2FE-119B-4EA8-ADE5-C4C77442D9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3046-DD4F-4B4A-8D6B-51CD3943D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F9E5-4155-47AE-92B8-A8898ADA8F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17221-5226-4BE1-BE21-2CD0F332AD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D10A2-5C80-4A9D-A180-F3F54CED24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9278-FBBF-4067-9D89-E4D07015B1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968F-5AEA-4206-977D-1DA6000448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C1E4-CEF6-4FD4-B228-DCECB60D57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F338-8DE8-4AE9-A5D6-38C2A1C4ED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A5A3-89F6-43F5-AF2E-AB74C54FAA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AF8-7602-488C-A38D-6D0A882055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E476-D0B3-411E-A7A7-597468BA3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A38-CFC7-46A1-B435-338DA5F8BC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CD0C-449C-4E46-8712-6CAAA6CCCF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96C-AED7-4806-8CCB-8073AF526F9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487E-DDE9-4808-9C67-5D7773F094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FADB-F71E-46B1-BBE8-55DCF5086F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8A242-B9A0-4855-9184-0FB38CCA08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2CD45-C30D-48F4-8EF0-D27082508E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DF725-CA64-43EF-A10A-9FB2A1CC2C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AD737-246E-444F-9EC3-776EFFB910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2F5DB-D275-443D-9F53-622B1FFD3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42920" y="112536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4A01B-F051-4BB4-BDB4-D9E21138E1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88D7D-6691-428C-B06C-CCE47BD139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9FEB8-D0E9-425F-9616-50CE8A08EA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49A7F-BEFF-4924-8D0A-C45A1A5A8C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87280" y="3658320"/>
            <a:ext cx="6858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1072C-55C8-4C16-9193-76E3ABAE3DC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600" y="162828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728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01600" y="3658320"/>
            <a:ext cx="3346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5E984-0691-4222-A2BF-FD0431CEE4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60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24440" y="162828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8728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60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24440" y="3658320"/>
            <a:ext cx="220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17261-FC2E-4D99-941A-07A22C1255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80353-B2B5-42A3-BD98-6A883072B2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1B751-1600-4609-97B2-9CCBF879B1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5A370-41FF-4CF6-9C76-971D97BE2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>
            <a:off x="324000" y="10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611280" y="189000"/>
            <a:ext cx="789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Mouvement international de la Croix-Rouge et du Croissant-Rouge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 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Boîte à outils pour les transferts monétaires dans les situations d'urg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3B0-2DEC-45C0-A1CE-E756FA293F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1EB-E5D6-4DA0-8D1C-ED95355B81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E81-560A-42DC-B35D-899EA7448F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5C0-E1D2-4698-A18A-C3500D468F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901-F0B7-4563-BC63-695CCCC9DC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B71-C160-4CB8-AF6A-5884CFDA02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0"/>
          <p:cNvSpPr/>
          <p:nvPr/>
        </p:nvSpPr>
        <p:spPr>
          <a:xfrm>
            <a:off x="324000" y="10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Box 7"/>
          <p:cNvSpPr/>
          <p:nvPr/>
        </p:nvSpPr>
        <p:spPr>
          <a:xfrm>
            <a:off x="611280" y="189000"/>
            <a:ext cx="789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Mouvement international de la Croix-Rouge et du Croissant-Rouge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 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Boîte à outils pour les transferts monétaires dans les situations d'urg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30B3-257D-4955-A8D3-F1E62383E1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T:\Language\2015\French\Z_Jonathan\Références\Cash in emergencies\CICR logo-FR.jpg"/>
          <p:cNvPicPr/>
          <p:nvPr/>
        </p:nvPicPr>
        <p:blipFill>
          <a:blip r:embed="rId2"/>
          <a:stretch/>
        </p:blipFill>
        <p:spPr>
          <a:xfrm>
            <a:off x="684360" y="297000"/>
            <a:ext cx="630000" cy="73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5273640" y="512640"/>
            <a:ext cx="3186000" cy="308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295-D879-41CE-B1A9-3DE6860A6C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324000" y="10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11280" y="189000"/>
            <a:ext cx="789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Mouvement international de la Croix-Rouge et du Croissant-Rouge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 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Boîte à outils pour les transferts monétaires dans les situations d'urg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F51A-3AAE-4E62-9BEF-605D98C849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171-99AF-4A5E-9667-C5CE0F36F6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4B5-DF3B-4F5F-91A2-92E76DCDB8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243-DC51-4068-A592-9F3446F2FF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0"/>
          <p:cNvSpPr/>
          <p:nvPr/>
        </p:nvSpPr>
        <p:spPr>
          <a:xfrm>
            <a:off x="324000" y="1052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611280" y="189000"/>
            <a:ext cx="789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Mouvement international de la Croix-Rouge et du Croissant-Rouge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CH" sz="900" spc="-1" strike="noStrike">
                <a:solidFill>
                  <a:srgbClr val="dc281e"/>
                </a:solidFill>
                <a:latin typeface="Arial"/>
              </a:rPr>
              <a:t> </a:t>
            </a:r>
            <a:r>
              <a:rPr b="1" lang="fr-CH" sz="900" spc="-1" strike="noStrike">
                <a:solidFill>
                  <a:srgbClr val="000000"/>
                </a:solidFill>
                <a:latin typeface="Arial"/>
              </a:rPr>
              <a:t>Boîte à outils pour les transferts monétaires dans les situations d'urg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475-1182-4505-805D-3CDD09DCD7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187280" y="162828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7E68-0781-408E-B796-C5E6B97557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ZoneTexte 5"/>
          <p:cNvSpPr/>
          <p:nvPr/>
        </p:nvSpPr>
        <p:spPr>
          <a:xfrm>
            <a:off x="4648320" y="2971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erlin Sans FB"/>
              </a:rPr>
              <a:t>BIENVENUE 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324000" y="1125360"/>
            <a:ext cx="3429000" cy="457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Nom du prestataire de services</a:t>
            </a:r>
            <a:br>
              <a:rPr sz="2200"/>
            </a:br>
            <a:br>
              <a:rPr sz="2200"/>
            </a:b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Nom du programme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fr-CH" sz="2200" spc="-1" strike="noStrike">
                <a:solidFill>
                  <a:srgbClr val="ffffff"/>
                </a:solidFill>
                <a:latin typeface="Arial"/>
              </a:rPr>
              <a:t>FORMATION à l’intention des dirigeants et du personne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itle 1"/>
          <p:cNvSpPr/>
          <p:nvPr/>
        </p:nvSpPr>
        <p:spPr>
          <a:xfrm>
            <a:off x="0" y="692280"/>
            <a:ext cx="9144000" cy="725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ahoma"/>
              </a:rPr>
              <a:t>Aperçu du programme (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380880" y="163656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i 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oi ?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ent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60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Processus financier (exemple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7644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formations sur le rôle du prestataire de services en ce qui concerne les processus d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60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Modalités des transferts de fonds (exemple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35100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érer des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09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Rôles et responsabilités du prestatair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39640" y="1530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s clients disposant d'identifiants appropriés doivent pouvoir se présenter à tous les points de versement du prestataire de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vant de verser la subvention en espèces, le prestataire doit s'assurer que le bénéficiaire dispos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) d’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un identifiant valid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 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) d’</a:t>
            </a:r>
            <a:r>
              <a:rPr b="0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un document valid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où figure le numéro de la trans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Documents d’identification valid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1871640" y="3357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érer des photos des documents d’identification va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609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Rôles et responsabilités du prestataire (2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0880" y="1614600"/>
            <a:ext cx="8763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Le prestataire doit garantir un niveau de sécurité adéquat aux points de vers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Le prestataire doit s'assurer que les mêmes normes de sécurité et de vérification sont appliquées à tous les points de versement (si un point de versement est plus flexible en termes de sécurité et de vérification, l'information circule et de plus en plus de personnes tendent à s’y présent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0880" y="1722240"/>
            <a:ext cx="822960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Date d’expi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Ne pas utiliser les données personnelles des bénéficiaires (nom, numéro de téléphone) à d’autres fins que celles du programme ; ces informations sont strictement confidentiel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Le prestataire ne doit faire payer aucun frais aux bénéficiair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0" y="692280"/>
            <a:ext cx="9144000" cy="60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ints impor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682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Cas particuliers (exemples)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1500120"/>
            <a:ext cx="9144000" cy="36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i le bénéficiaire ne dispose pas de document officiel d'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i le document comporte une erreur (nom du bénéficiaire ou numéro d'identifi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En cas de problème, les personnes de contact sont 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57200" y="170460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Fournir la liste des bénéficiaires au prestataire de services et planifier le processus de distrib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Assurer le suivi des activités des agents du prestataire de services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uivre le processus de versement et tout problème de sécurit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recueillir les perspectives des bénéfici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i nécessaire, fournir des retours d’information sur le processus de versement à la direction du prestataire de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itle 1"/>
          <p:cNvSpPr/>
          <p:nvPr/>
        </p:nvSpPr>
        <p:spPr>
          <a:xfrm>
            <a:off x="0" y="692280"/>
            <a:ext cx="9144000" cy="776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Rôles et responsabilités de la Société nationale de la Croix-Rouge/du Croissant-Ro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759960"/>
            <a:ext cx="9144000" cy="70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Ce qu'il ne faut pas faire..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1" name="Content Placeholder 2"/>
          <p:cNvSpPr/>
          <p:nvPr/>
        </p:nvSpPr>
        <p:spPr>
          <a:xfrm>
            <a:off x="457200" y="210492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Ne pas omettre de vérifier les documents d'identification du bénéficia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Ne pas oublier d'informer la Croix-Rouge et le Croissant-Rouge des difficultés rencontrées aux points de versement — techniques ou aut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Ne pas être impoli envers les bénéficiai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5" descr="C:\Users\mlansakara\AppData\Local\Microsoft\Windows\Temporary Internet Files\Content.IE5\828UOZQ8\MC900054583[1].wmf"/>
          <p:cNvPicPr/>
          <p:nvPr/>
        </p:nvPicPr>
        <p:blipFill>
          <a:blip r:embed="rId1"/>
          <a:stretch/>
        </p:blipFill>
        <p:spPr>
          <a:xfrm>
            <a:off x="7227720" y="4710240"/>
            <a:ext cx="144792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0" y="17733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 u="sng">
                <a:solidFill>
                  <a:srgbClr val="000000"/>
                </a:solidFill>
                <a:uFillTx/>
                <a:latin typeface="Arial"/>
              </a:rPr>
              <a:t>Présentation du Mouvement international de la Croix-Rouge et du Croissant-Rou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 u="sng">
                <a:solidFill>
                  <a:srgbClr val="000000"/>
                </a:solidFill>
                <a:uFillTx/>
                <a:latin typeface="Arial"/>
              </a:rPr>
              <a:t>Le 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Quel est l’objet du programme 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Comment fonctionne le programme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Responsabilités des prestataires d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Responsabilités de la Croix-Rouge/du Croissant-Rou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Ce qu'il ne faut pas f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Commentaires et sugg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4920" y="847800"/>
            <a:ext cx="705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Vue d'ensemble de la 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3" descr="C:\Users\mlansakara\AppData\Local\Microsoft\Windows\Temporary Internet Files\Content.IE5\828UOZQ8\MC900434859[1].png"/>
          <p:cNvPicPr/>
          <p:nvPr/>
        </p:nvPicPr>
        <p:blipFill>
          <a:blip r:embed="rId1"/>
          <a:stretch/>
        </p:blipFill>
        <p:spPr>
          <a:xfrm>
            <a:off x="6781680" y="450864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 txBox="1"/>
          <p:nvPr/>
        </p:nvSpPr>
        <p:spPr>
          <a:xfrm>
            <a:off x="228240" y="1441080"/>
            <a:ext cx="84582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Questions ? Commentaires ? Suggestions 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endant toute la durée du programme, </a:t>
            </a:r>
            <a:r>
              <a:rPr b="0" i="1" lang="fr-CH" sz="2800" spc="-1" strike="noStrike">
                <a:solidFill>
                  <a:srgbClr val="000000"/>
                </a:solidFill>
                <a:latin typeface="Arial"/>
              </a:rPr>
              <a:t>s’adresser aux personnes de contact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pour toute question relative au programme, à l’admissibilité des bénéficiai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itle 1"/>
          <p:cNvSpPr/>
          <p:nvPr/>
        </p:nvSpPr>
        <p:spPr>
          <a:xfrm>
            <a:off x="0" y="831960"/>
            <a:ext cx="9144000" cy="60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Questions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18920" y="2276640"/>
            <a:ext cx="5715000" cy="14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Merci pour votre présence aujourd'hui !</a:t>
            </a:r>
            <a:br>
              <a:rPr sz="3600"/>
            </a:br>
            <a:r>
              <a:rPr b="1" i="1" lang="en-GB" sz="3600" spc="-1" strike="noStrike">
                <a:solidFill>
                  <a:srgbClr val="009973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380880" y="380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20520" y="692280"/>
            <a:ext cx="9144000" cy="1079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Le Mouvement international de la Croix-Rouge et du Croissant-Rou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606" name="Picture 2" descr="Croixrouge_logos"/>
          <p:cNvPicPr/>
          <p:nvPr/>
        </p:nvPicPr>
        <p:blipFill>
          <a:blip r:embed="rId1"/>
          <a:stretch/>
        </p:blipFill>
        <p:spPr>
          <a:xfrm>
            <a:off x="530280" y="1954080"/>
            <a:ext cx="808344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roixrouge_logos"/>
          <p:cNvPicPr/>
          <p:nvPr/>
        </p:nvPicPr>
        <p:blipFill>
          <a:blip r:embed="rId1"/>
          <a:stretch/>
        </p:blipFill>
        <p:spPr>
          <a:xfrm>
            <a:off x="6146640" y="4589640"/>
            <a:ext cx="2971800" cy="2230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2"/>
          <p:cNvSpPr/>
          <p:nvPr/>
        </p:nvSpPr>
        <p:spPr>
          <a:xfrm>
            <a:off x="0" y="1846440"/>
            <a:ext cx="911844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Le plus grand réseau humanitaire au m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90 millions de volon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190 Sociétés nationales à travers le monde — présentes dans presque tous les p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Quatre prix Nobel de la paix (1901, 1918, 1945, 196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tatut d’observateur auprè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l’Organisation des Nations Un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0" y="770040"/>
            <a:ext cx="9144000" cy="1066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Le Mouvement international de la Croix-Rouge et du Croissant-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627120"/>
            <a:ext cx="9252000" cy="914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incipes et valeurs du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uvement de la Croix Rouge et du Croissant-Roug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15960" y="1506600"/>
            <a:ext cx="3200400" cy="385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uman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arti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utr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olon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nivers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ontent Placeholder 2"/>
          <p:cNvSpPr/>
          <p:nvPr/>
        </p:nvSpPr>
        <p:spPr>
          <a:xfrm>
            <a:off x="5500800" y="1506600"/>
            <a:ext cx="36432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AL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de la v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éhension mu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it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ontar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id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nement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1"/>
          <a:srcRect l="6395" t="4230" r="7196" b="36510"/>
          <a:stretch/>
        </p:blipFill>
        <p:spPr>
          <a:xfrm>
            <a:off x="228600" y="1665360"/>
            <a:ext cx="1295280" cy="1341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2"/>
          <a:srcRect l="9599" t="4230" r="7196" b="36510"/>
          <a:stretch/>
        </p:blipFill>
        <p:spPr>
          <a:xfrm>
            <a:off x="4343400" y="1741320"/>
            <a:ext cx="1066680" cy="1149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3"/>
          <a:srcRect l="7196" t="4240" r="6395" b="36347"/>
          <a:stretch/>
        </p:blipFill>
        <p:spPr>
          <a:xfrm>
            <a:off x="0" y="3189240"/>
            <a:ext cx="1219320" cy="1265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"/>
          <p:cNvPicPr/>
          <p:nvPr/>
        </p:nvPicPr>
        <p:blipFill>
          <a:blip r:embed="rId4"/>
          <a:srcRect l="6395" t="4230" r="7196" b="34400"/>
          <a:stretch/>
        </p:blipFill>
        <p:spPr>
          <a:xfrm>
            <a:off x="228600" y="4941720"/>
            <a:ext cx="1177920" cy="10670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"/>
          <p:cNvPicPr/>
          <p:nvPr/>
        </p:nvPicPr>
        <p:blipFill>
          <a:blip r:embed="rId5"/>
          <a:srcRect l="6395" t="4230" r="7891" b="36510"/>
          <a:stretch/>
        </p:blipFill>
        <p:spPr>
          <a:xfrm>
            <a:off x="2340000" y="5445000"/>
            <a:ext cx="1219320" cy="1273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"/>
          <p:cNvPicPr/>
          <p:nvPr/>
        </p:nvPicPr>
        <p:blipFill>
          <a:blip r:embed="rId6"/>
          <a:srcRect l="6395" t="4230" r="4006" b="36510"/>
          <a:stretch/>
        </p:blipFill>
        <p:spPr>
          <a:xfrm>
            <a:off x="4356000" y="481968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"/>
          <p:cNvPicPr/>
          <p:nvPr/>
        </p:nvPicPr>
        <p:blipFill>
          <a:blip r:embed="rId7"/>
          <a:srcRect l="9599" t="4230" r="7196" b="36510"/>
          <a:stretch/>
        </p:blipFill>
        <p:spPr>
          <a:xfrm>
            <a:off x="4114800" y="3189240"/>
            <a:ext cx="1143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640" y="692280"/>
            <a:ext cx="9144000" cy="761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Présentation de la Société nationale hôt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539640" y="3411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incipaux domaines d'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539640" y="204300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ission de la Société nationale hô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12600" y="764640"/>
            <a:ext cx="91440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ffffff"/>
                </a:solidFill>
                <a:latin typeface="Arial"/>
              </a:rPr>
              <a:t>Principaux domaines d'activité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50920" y="1806480"/>
            <a:ext cx="5325840" cy="9471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Exemples de domaines d‘activit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itle 1"/>
          <p:cNvSpPr/>
          <p:nvPr/>
        </p:nvSpPr>
        <p:spPr>
          <a:xfrm>
            <a:off x="7920" y="692280"/>
            <a:ext cx="9144000" cy="661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roduction au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90600" y="1628640"/>
            <a:ext cx="3429000" cy="457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 du programme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tle 1"/>
          <p:cNvSpPr/>
          <p:nvPr/>
        </p:nvSpPr>
        <p:spPr>
          <a:xfrm>
            <a:off x="0" y="614520"/>
            <a:ext cx="9144000" cy="60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erçu du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1099080" y="175428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 quoi s’agit-il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442080" y="289404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473760" y="4191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eu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541440" y="54151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1:32Z</dcterms:created>
  <dc:creator>spegel</dc:creator>
  <dc:description/>
  <dc:language>en-US</dc:language>
  <cp:lastModifiedBy>Florence MAROT</cp:lastModifiedBy>
  <dcterms:modified xsi:type="dcterms:W3CDTF">2016-04-29T13:23:47Z</dcterms:modified>
  <cp:revision>211</cp:revision>
  <dc:subject/>
  <dc:title>PowerPoint Presentation</dc:title>
</cp:coreProperties>
</file>